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FB0-F55C-40E9-B8E6-2723B8D3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383-A7E7-425C-B952-D9763F48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E12-1690-4856-A59E-2D11174B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B6B-09C4-4D33-9073-8AFA50B7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148-EC24-46C6-BCC1-0DB015B0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B55-1658-44AE-84B6-4D9F2C52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4F4-F79A-4CF9-864D-9DE55E85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48F-68DE-434E-9E75-F545C0E2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796-DC59-425E-9802-032174C3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2DF-5422-4372-824F-26DCFE29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A12-89CD-4378-AEA4-DB62FAA9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4C2-FD1A-4BE0-BB4A-D22052B2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241E-1FF2-4945-AA6C-7B7094FD505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0840" y="668160"/>
            <a:ext cx="1000080" cy="606600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20920" y="668160"/>
            <a:ext cx="2387520" cy="606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7000" y="668160"/>
            <a:ext cx="3409920" cy="6066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8760" y="3543480"/>
          <a:ext cx="723888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43480"/>
                    <a:ext cx="72388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0080" y="457200"/>
          <a:ext cx="7297560" cy="33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80" y="457200"/>
                    <a:ext cx="72975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-74160" y="1905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8040" y="505944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497520" y="342648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montañ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1210320" y="342792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de lome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82520" y="34268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reno p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7112160" y="365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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linación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alud en g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7230240" y="5571720"/>
            <a:ext cx="134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 = Tan </a:t>
            </a:r>
            <a:r>
              <a:rPr b="0" lang="es-MX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= 1/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423920" y="1143720"/>
            <a:ext cx="959760" cy="1501200"/>
            <a:chOff x="7423920" y="1143720"/>
            <a:chExt cx="959760" cy="1501200"/>
          </a:xfrm>
        </p:grpSpPr>
        <p:sp>
          <p:nvSpPr>
            <p:cNvPr id="56" name=""/>
            <p:cNvSpPr/>
            <p:nvPr/>
          </p:nvSpPr>
          <p:spPr>
            <a:xfrm flipH="1" rot="16200000">
              <a:off x="7156800" y="1692360"/>
              <a:ext cx="1219320" cy="685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7857720" y="213048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42400" y="2465280"/>
              <a:ext cx="5688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4"/>
                  </a:moveTo>
                  <a:cubicBezTo>
                    <a:pt x="2" y="22"/>
                    <a:pt x="2" y="15"/>
                    <a:pt x="5" y="11"/>
                  </a:cubicBezTo>
                  <a:cubicBezTo>
                    <a:pt x="8" y="7"/>
                    <a:pt x="14" y="2"/>
                    <a:pt x="19" y="1"/>
                  </a:cubicBezTo>
                  <a:cubicBezTo>
                    <a:pt x="24" y="0"/>
                    <a:pt x="33" y="5"/>
                    <a:pt x="36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7634520" y="1138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8116920" y="1877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8389800" y="0"/>
          <a:ext cx="640080" cy="6858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9800" y="0"/>
                    <a:ext cx="640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617840" y="152280"/>
            <a:ext cx="49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abla 2  Clasificación topográfica en la República Mexic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0840" y="3700440"/>
            <a:ext cx="69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48320" y="3578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1:43:51Z</dcterms:created>
  <dc:creator>Alejandro Carrillo</dc:creator>
  <dc:description/>
  <dc:language>en-US</dc:language>
  <cp:lastModifiedBy>Monica Balsas</cp:lastModifiedBy>
  <dcterms:modified xsi:type="dcterms:W3CDTF">2003-03-19T20:37:34Z</dcterms:modified>
  <cp:revision>13</cp:revision>
  <dc:subject/>
  <dc:title>Presentación de PowerPoint</dc:title>
</cp:coreProperties>
</file>